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60166"/>
        <c:axId val="97462175"/>
      </c:barChart>
      <c:catAx>
        <c:axId val="39260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62175"/>
        <c:crosses val="autoZero"/>
        <c:auto val="1"/>
        <c:lblAlgn val="ctr"/>
        <c:lblOffset val="100"/>
        <c:noMultiLvlLbl val="0"/>
      </c:catAx>
      <c:valAx>
        <c:axId val="97462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0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2E4-FA4C-461C-8669-A4A45852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1CD-4FF7-4CEA-BA95-F01C93C0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109-7665-48AF-9682-F2FE1AC4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47B-879E-45DE-B910-BA661099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264-3D22-4437-80C2-7380582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22D-3F3D-43D4-9A91-C5F1BA42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7D6-F384-40CB-A774-2831012C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F7C-230D-4F6E-8C1C-C8421123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0C1-FCFA-440E-809E-44C63A97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121-9FE3-409F-827C-6FDCF47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AD0-9F63-443D-891D-11D50FC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035-8586-4026-B471-DE7A615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4FC65-5594-4E5F-A021-DC1F6D960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